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455-D8B4-4944-8BD5-54892349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20D-9372-4A33-A6E1-623B2668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ACC-6159-4501-B865-A5B82D54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315-6197-4E7C-A751-97A4AD03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FAD6-6724-46D5-B38A-75E684C1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5CAF-CDA3-4F43-854E-88EF471E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BC94-0DD9-4318-A3F1-292B9997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F71F-4CC7-4436-B9CD-E477D9D4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71F8-FEF9-4B85-9E48-77AED1AC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CD86-6EBA-4EA0-BD5D-BBCB7F02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7DBC-34BE-4DC3-B190-C5DB8A28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109-D44B-4FFE-9173-5E293A88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A7BC-14C0-446F-A6C0-5516002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3F89-815B-46EB-A370-C47E43FA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87D3-E07D-4BAB-AA8C-B0B255EE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F996-ED9E-4813-B18D-B6A57ADD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1154-8B5A-43D1-8A59-18FEF468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3E8-D4C7-4255-BB69-CBF4E941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9D2-C093-40DC-91BE-FF457756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630-2DB4-42BC-8339-29B3B9EC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FF0-4F7E-4FF9-9361-AD139318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3FE-D11A-43B1-93CD-AD6859C6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9BF-90B7-469E-87CC-C4E7B4BA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475-1DB6-4F8F-BC2B-0C8D0BC5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3C35-2ECB-4A6F-B604-BA35E185334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095A-EF03-46A6-BE50-8E65F781DCF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th Wik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odsoe-daigle@wikispaces.c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d By the Way…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ki” means “Quick” in Hawaii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 get to your Wiki…wiki wiki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ink from my Wiki to Your Wik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rom our Math Enrichment Home page, click on nms-mathletics on the side navigation ba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ce you are at nms-mathletics, request permission to join the site so that you are able to edit your pa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fter we accept you as a member, click on  your name on the Wiki site, you simply have to click on it and start creating your electronic portfoli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iki  means …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oint of having your own page of the Wiki is so that you have an Electronic Portfolio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ok at our 4 goals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th Competi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w Math Skil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adership Project that uses your Multiple Intelligenc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un with Ma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ke 4 sections in your Wiki pa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 that you can report on your progress for each of our go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#1  Math Competi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cord which exams you have d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cord your mar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ment on your progres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e about questions that you find easy and ha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#2  New Math Ski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links for sites that teach the new ski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e about things that you want to learn abou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sk questions that others can answ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are your “Eureka” moments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#3  Leadership Projec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early state what your project 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a visual of what you are do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lin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questions that others can answer on the discussion boa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#4  Fun With Mat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Mensa-type ques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your favourite gam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lin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12:57Z</dcterms:created>
  <dc:creator>karen.godsoe-daigle</dc:creator>
  <dc:description/>
  <dc:language>en-US</dc:language>
  <cp:lastModifiedBy>karen.godsoe-daigle</cp:lastModifiedBy>
  <dcterms:modified xsi:type="dcterms:W3CDTF">2008-02-07T12:27:22Z</dcterms:modified>
  <cp:revision>5</cp:revision>
  <dc:subject/>
  <dc:title>Math Wiki</dc:title>
</cp:coreProperties>
</file>